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08B-1B0E-4574-BEA6-653FD2E1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DA6-8C2F-4AA6-B5D4-AEAF73F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813-3A9D-40DE-8EC5-E079CBFE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2C8-58BB-4F63-9A1F-0E7B3074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5FE-388C-40AF-A64B-34975174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EF9-0C32-4BF9-9F82-352A7D0B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8DF-16B8-43B4-87B2-3ED9106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3BB-FD97-4F33-95DD-A74B6FA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F67-3359-44EE-A81A-B8ED088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22E-8B08-4BCD-B900-AF48EDAC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235-F3C9-4D24-9D39-BB964073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7D3-07B5-4DDA-B37B-BE0E122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B020-F421-4000-BD96-E35383BBA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7524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The Great Flood of 19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672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0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74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12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905120"/>
            <a:ext cx="7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29400" y="18730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18446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0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8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18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99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840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501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8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36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50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3632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18162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4120" y="18288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1840" y="18288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2920" y="18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182880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9720" y="1752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9080" y="18288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7160" y="1828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4680" y="1828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72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16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9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40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190512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56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20732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52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92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1905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406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190512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5560" y="1873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5748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190512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25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7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172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98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895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0840" y="2025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00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4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85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732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540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98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971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2T18:52:10Z</dcterms:modified>
  <cp:revision>21</cp:revision>
  <dc:subject/>
  <dc:title>Rivet</dc:title>
</cp:coreProperties>
</file>